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309-E64A-4A1F-A0F3-26655B83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AB3-108A-4F21-98C7-6C5770D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50C-2D68-4B4E-A127-F96619DB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D1B-8E8A-4EF2-83A1-BA08D3B1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9CB-E681-46DE-92E7-2D3C988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1DD-BF70-4765-9A70-A08A1E0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4AF-23F4-487D-8736-991CDD1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8C4-DF63-497A-BD16-CC21E857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DEC-3007-4517-A2E6-7852AA2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B3E-DA37-4B22-8A81-439A7872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92B-C788-44F3-9491-DDC5DE0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B65-4536-4185-B659-2F50BE8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06F-2E69-4D36-B9E6-22E088C26DD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5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emical Reactions and Quantit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33"/>
                </a:solidFill>
                <a:latin typeface="Arial"/>
              </a:rPr>
              <a:t>Types of Reaction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33"/>
                </a:solidFill>
                <a:latin typeface="Arial"/>
              </a:rPr>
              <a:t>Oxidation-Reduction Reaction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ngle replacement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2Al  +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B.  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Ag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Na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C.  3C  +  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2Fe   +  3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343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0292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7150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us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reaction in which a compound (often carbon) reacts with  oxyge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  + 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2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5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4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6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6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0532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26708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87692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541008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lance the combustion equ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___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___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65760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lance the combustion equ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8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   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5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65760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xidation and Re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ctions that involve a loss or gain of elec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ccurs in many of the 4 types of reactions and combus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in food metabolism, batteries, rusting of met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ments for Oxidization-Reduc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 are transferre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 processes occu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xida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 Loss of electrons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(LEO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2e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duc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Gain of electrons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GER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+ 2e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41972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63868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ed Red-Ox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the oxidation and reduction reactions to mak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ss of electrons = Gain of elec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  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+ 2e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2e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  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87692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00040" y="3657600"/>
            <a:ext cx="762120" cy="68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1480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95520" y="3733920"/>
            <a:ext cx="762120" cy="68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in/Loss of Hydrog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organic and biological reac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xidation = Loss of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reduction = Gain of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the following as an 1) oxidation or a reduction proces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A.    S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n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+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4e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B.    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+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1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C.   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276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3809880"/>
            <a:ext cx="6094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the following as an 1) oxidation or a reduction proces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A.    S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n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+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4e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B.    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+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1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C.   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80988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 of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emical reactions are classified into four general typ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Combin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ecomposi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Sing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light-sensitive sunglasses, UV light initiates an oxidation-reduction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Ag   +   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Which reactant is oxidiz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3) A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Which reactant is reduced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3)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327672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light-sensitive sunglasses, UV light initiates an oxidation-reduction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Ag   +   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Which reactant is oxidiz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l   + e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Which reactant is reduced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+ e-            A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27672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548640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ation (Synthesis)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or more elements or simple compounds combine to form (synthesize) one produ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 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Mg  +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Mg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Na  +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Na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34340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541008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87692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73392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composi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ne substance is broken down (split) into two or more simpler substanc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g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g   +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KCl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KCl  + 3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098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4197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9528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ombination or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omposi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A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Br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B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B. 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C.  4 Al   + 3C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9625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6483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53341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) combination or 2) decomposi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A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Br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HB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B. 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C.  4 Al   + 3C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5053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1911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8769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ngle Re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ne element takes the place of  an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lement in a reacting compound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C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AB   + C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  Cu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352680"/>
            <a:ext cx="106704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9625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uble Re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elements in reactants take the place of  each oth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B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CD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   + C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N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NaCl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2HCl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37339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956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1055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ngle replacement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2Al  +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B.  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Ag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Na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C.  3C  +  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2Fe   +  3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0384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7242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100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15:52:32Z</dcterms:created>
  <dc:creator>Ana Selby</dc:creator>
  <dc:description/>
  <dc:language>en-US</dc:language>
  <cp:lastModifiedBy>Timberlake</cp:lastModifiedBy>
  <cp:lastPrinted>1999-03-26T01:13:54Z</cp:lastPrinted>
  <dcterms:modified xsi:type="dcterms:W3CDTF">2000-03-08T06:10:02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5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